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345960"/>
            <a:ext cx="80769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firstslide"/>
          </p:cNvPr>
          <p:cNvSpPr/>
          <p:nvPr/>
        </p:nvSpPr>
        <p:spPr>
          <a:xfrm>
            <a:off x="765648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endshow"/>
          </p:cNvPr>
          <p:cNvSpPr/>
          <p:nvPr/>
        </p:nvSpPr>
        <p:spPr>
          <a:xfrm>
            <a:off x="8344080" y="6019920"/>
            <a:ext cx="533160" cy="8380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45">
                <a:moveTo>
                  <a:pt x="0" y="0"/>
                </a:moveTo>
                <a:lnTo>
                  <a:pt x="21600" y="0"/>
                </a:lnTo>
                <a:lnTo>
                  <a:pt x="21600" y="33945"/>
                </a:lnTo>
                <a:lnTo>
                  <a:pt x="0" y="33945"/>
                </a:lnTo>
                <a:close/>
              </a:path>
              <a:path fill="lightenLess" w="21600" h="33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45">
                <a:moveTo>
                  <a:pt x="21600" y="0"/>
                </a:moveTo>
                <a:lnTo>
                  <a:pt x="21600" y="33945"/>
                </a:lnTo>
                <a:lnTo>
                  <a:pt x="20200" y="32545"/>
                </a:lnTo>
                <a:lnTo>
                  <a:pt x="20200" y="1400"/>
                </a:lnTo>
                <a:close/>
              </a:path>
              <a:path fill="darkenLess" w="21600" h="33945">
                <a:moveTo>
                  <a:pt x="21600" y="33945"/>
                </a:moveTo>
                <a:lnTo>
                  <a:pt x="0" y="33945"/>
                </a:lnTo>
                <a:lnTo>
                  <a:pt x="1400" y="32545"/>
                </a:lnTo>
                <a:lnTo>
                  <a:pt x="20200" y="32545"/>
                </a:lnTo>
                <a:close/>
              </a:path>
              <a:path fill="lighten" w="21600" h="33945">
                <a:moveTo>
                  <a:pt x="0" y="33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5029200" y="66294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4.png"/><Relationship Id="rId4" Type="http://schemas.openxmlformats.org/officeDocument/2006/relationships/slide" Target="slide1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8480" y="2286000"/>
            <a:ext cx="54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0440" indent="-3459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theme is 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eneraliza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about life or human na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528480" y="3200400"/>
            <a:ext cx="51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0440" indent="-3459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ertain types of experiences are common to all people everywhe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528480" y="13701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fferent writers from different cultures often express similar the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195588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62720" y="289548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34041.JPG"/>
          <p:cNvPicPr/>
          <p:nvPr/>
        </p:nvPicPr>
        <p:blipFill>
          <a:blip r:embed="rId4"/>
          <a:stretch/>
        </p:blipFill>
        <p:spPr>
          <a:xfrm>
            <a:off x="6019920" y="2362320"/>
            <a:ext cx="2590560" cy="259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Universal Themes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248520" y="1523880"/>
            <a:ext cx="237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is the conflict and how is it resolv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266688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nding the Them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00200"/>
            <a:ext cx="5638680" cy="515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ecause of a feud over a piece of land, Ulrich and Georg are bitter enemies. One night they encounter each other on the disputed land. Each thinks of killing the other. Suddenly a huge tree falls and pins them both under its weigh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 first the men threaten each other. After a while, however, they notice each other’s suffering, make a pact of friendship, and look forward to being rescued and living in peace. Then they are attacked by wol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ynopsis of “The Interlopers” by Sak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34290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do the characters lear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426708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8520" y="2590920"/>
            <a:ext cx="2387520" cy="314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wo men are fighting over a piece of land. They put the feud behind them when they are both facing possible dea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41008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324480" y="1447920"/>
            <a:ext cx="237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1523880"/>
            <a:ext cx="237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is the conflict and how is it resolv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nding the Them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00200"/>
            <a:ext cx="5638680" cy="515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ecause of a feud over a piece of land, Ulrich and Georg are bitter enemies. One night they encounter each other on the disputed land. Each thinks of killing the other. Suddenly a huge tree falls and pins them both under its weigh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 first the men threaten each other. After a while, however, they notice each other’s suffering, make a pact of friendship, and look forward to being rescued and living in peace. Then they are attacked by wol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ynopsis of “The Interlopers” by Sak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5943600"/>
            <a:ext cx="2590920" cy="914400"/>
          </a:xfrm>
          <a:custGeom>
            <a:avLst/>
            <a:gdLst>
              <a:gd name="textAreaLeft" fmla="*/ 59040 w 2590920"/>
              <a:gd name="textAreaRight" fmla="*/ 2531880 w 2590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9787" y="1400"/>
                </a:lnTo>
                <a:lnTo>
                  <a:pt x="1400" y="1400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9787" y="20200"/>
                </a:lnTo>
                <a:lnTo>
                  <a:pt x="59787" y="1400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7" y="20200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248520" y="2362320"/>
            <a:ext cx="2387520" cy="2228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rvival is more important than land ownership. Letting go of hatred feels goo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72400" y="4572000"/>
            <a:ext cx="797040" cy="420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24480" y="1447920"/>
            <a:ext cx="237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152388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do the characters lear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nding the Them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600200"/>
            <a:ext cx="5638680" cy="515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ecause of a feud over a piece of land, Ulrich and Georg are bitter enemies. One night they encounter each other on the disputed land. Each thinks of killing the other. Suddenly a huge tree falls and pins them both under its weigh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 first the men threaten each other. After a while, however, they notice each other’s suffering, make a pact of friendship, and look forward to being rescued and living in peace. Then they are attacked by wol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ynopsis of “The Interlopers” by Sak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5943600"/>
            <a:ext cx="2590920" cy="914400"/>
          </a:xfrm>
          <a:custGeom>
            <a:avLst/>
            <a:gdLst>
              <a:gd name="textAreaLeft" fmla="*/ 59040 w 2590920"/>
              <a:gd name="textAreaRight" fmla="*/ 2531880 w 2590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9787" y="1400"/>
                </a:lnTo>
                <a:lnTo>
                  <a:pt x="1400" y="1400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9787" y="20200"/>
                </a:lnTo>
                <a:lnTo>
                  <a:pt x="59787" y="1400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7" y="20200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248520" y="1523880"/>
            <a:ext cx="237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is the theme? (State it in a sentenc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259092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nding the Them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600200"/>
            <a:ext cx="5638680" cy="515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ecause of a feud over a piece of land, Ulrich and Georg are bitter enemies. One night they encounter each other on the disputed land. Each thinks of killing the other. Suddenly a huge tree falls and pins them both under its weigh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 first the men threaten each other. After a while, however, they notice each other’s suffering, make a pact of friendship, and look forward to being rescued and living in peace. Then they are attacked by wol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ynopsis of “The Interlopers” by Sak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5653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248520" y="2651040"/>
            <a:ext cx="2438280" cy="314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ait until tragedy strikes to make peace with your enemies,  you may not be able to enjoy the rewards of forgive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486400"/>
            <a:ext cx="797040" cy="420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24480" y="1447920"/>
            <a:ext cx="237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nding the Them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600200"/>
            <a:ext cx="5638680" cy="515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ecause of a feud over a piece of land, Ulrich and Georg are bitter enemies. One night they encounter each other on the disputed land. Each thinks of killing the other. Suddenly a huge tree falls and pins them both under its weigh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 first the men threaten each other. After a while, however, they notice each other’s suffering, make a pact of friendship, and look forward to being rescued and living in peace. Then they are attacked by wol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ynopsis of “The Interlopers” by Sak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523880"/>
            <a:ext cx="237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is the theme? (State it in a sentenc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5943600"/>
            <a:ext cx="2590920" cy="914400"/>
          </a:xfrm>
          <a:custGeom>
            <a:avLst/>
            <a:gdLst>
              <a:gd name="textAreaLeft" fmla="*/ 59040 w 2590920"/>
              <a:gd name="textAreaRight" fmla="*/ 2531880 w 2590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9787" y="1400"/>
                </a:lnTo>
                <a:lnTo>
                  <a:pt x="1400" y="1400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9787" y="20200"/>
                </a:lnTo>
                <a:lnTo>
                  <a:pt x="59787" y="1400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7" y="20200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3526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92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hine a light on our common exper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37016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Universal the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-3492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me up again and again in lit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886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92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an help guide us through our l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454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92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eal with basic human concerns—good and evil, life and death, love and lo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2920" y="213372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715000" y="304812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696080" y="3581280"/>
            <a:ext cx="152640" cy="101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Universal Themes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724280" y="14479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atch these familiar stories to the appropriate universal them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0160" y="480060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81480" y="2879640"/>
            <a:ext cx="3429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t pays to work hard and plan ahe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962520"/>
            <a:ext cx="3429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ppearances can be deceiv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Universal Themes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600200"/>
            <a:ext cx="3962160" cy="271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Verdana"/>
              </a:rPr>
              <a:t>Storie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Little Red 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eauty and the Be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hree Little Pi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Ugly Duck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rog Pri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5653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410080"/>
            <a:ext cx="797040" cy="420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Universal Themes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4479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atch these familiar stories to the appropriate universal them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879640"/>
            <a:ext cx="3429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t pays to work hard and plan ahe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3962520"/>
            <a:ext cx="3429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ppearances can be deceiv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600200"/>
            <a:ext cx="3962160" cy="271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Verdana"/>
              </a:rPr>
              <a:t>Storie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Little Red 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eauty and the Be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hree Little Pi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Ugly Duck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rog Pri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943600"/>
            <a:ext cx="2590920" cy="914400"/>
          </a:xfrm>
          <a:custGeom>
            <a:avLst/>
            <a:gdLst>
              <a:gd name="textAreaLeft" fmla="*/ 59040 w 2590920"/>
              <a:gd name="textAreaRight" fmla="*/ 2531880 w 2590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9787" y="1400"/>
                </a:lnTo>
                <a:lnTo>
                  <a:pt x="1400" y="1400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9787" y="20200"/>
                </a:lnTo>
                <a:lnTo>
                  <a:pt x="59787" y="1400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7" y="20200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137016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Keep the following guidelines in mind when you want to find and state the theme of a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28480" y="2286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 theme is not the same thing as the su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528480" y="3200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45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ubjec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imply the topic. It can be stated in a single word, such as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loyal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28480" y="413064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45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m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makes some revelation about the subject and should be expressed in a sentence: “Loyalty to a leader is not always noble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0120" y="198108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133720" y="287028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379404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nding the Them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8480" y="13701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riters often express theme through what their characters lear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286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92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the mai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haracter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chan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200400"/>
            <a:ext cx="52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92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a character realize something he or she did not know befo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152640" cy="101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86400" y="28195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nding the Them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57360" y="2381400"/>
            <a:ext cx="2543040" cy="348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nflict helps reveal the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28480" y="192096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45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is th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struggle between opposing forces, that the main character fac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28480" y="2819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45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 is the conflict resolv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28480" y="3962520"/>
            <a:ext cx="2443320" cy="19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wo friends find a wallet. One friend wants to return it to the owner; the other wants to keep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962520"/>
            <a:ext cx="2286000" cy="19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eople are often rewarded for making the right moral deci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962520"/>
            <a:ext cx="2365200" cy="19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y return the wallet and share a small rewar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28480" y="3505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505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15000" y="157464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534520" y="248904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638680" y="302256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867280" y="584208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3048120" y="584208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nding the Them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ometimes the title gives cl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528480" y="1905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45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the title have a special mean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2438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45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it point to the the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28480" y="34448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 theme applies to the entire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9783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45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est your statement of the theme. Does it apply to the whole work, not just to parts of i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24480" y="1574640"/>
            <a:ext cx="152640" cy="101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315200" y="210816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562720" y="264168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7315200" y="367344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nding the Them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re is no single way to state the the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9051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45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eople may express the same theme in different wor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8195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45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re may be different opinions about what the main theme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1148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45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most meaningful literary works often have more than one the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77320" y="157464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181480" y="251460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743200" y="378468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nding the Them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019920" y="198108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SJW</dc:creator>
  <dc:description/>
  <dc:language>en-US</dc:language>
  <cp:lastModifiedBy>San Diego City Schools</cp:lastModifiedBy>
  <cp:lastPrinted>2004-11-19T20:17:12Z</cp:lastPrinted>
  <dcterms:modified xsi:type="dcterms:W3CDTF">2011-09-22T16:16:51Z</dcterms:modified>
  <cp:revision>100</cp:revision>
  <dc:subject/>
  <dc:title>Elements of Literature: Theme</dc:title>
</cp:coreProperties>
</file>